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FEC-FC73-4E45-9302-A70B4A16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278-CAC9-4989-86D7-24573DC7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DCE-251B-41C8-B696-79A11CDA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9EB-6CCF-4BE3-B5F5-FDFF5541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89E1-8611-42BD-BD97-FCB5092A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6F90-9576-4349-8818-B62AD239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1CF0-2224-4624-8DA5-9B46CFE4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3B46-41B2-48C8-A85C-D22243AC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369-2326-401E-8B45-C2E87C2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B469-064E-4237-99C7-7ECCF8C4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A3ED-51EC-49AD-BA24-0FA2B9B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200-F321-498E-9ED5-EC7E6CA5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1B18-627D-4CB4-9B0F-E7C569A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090-FFDF-4F67-A949-6BCFE43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1D5-86DA-4EAD-B1BF-38D9EB63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3EA2-0AB9-4552-BD32-BC4EE27A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DF10-F056-4C6D-BF70-A32EE673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905-E092-4301-AC15-523BD22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E05-5694-47CE-BD7C-A69CEE1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2D8-C4EF-4EB2-B09A-93E790E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D95-85FE-440B-89A6-49C4E62D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59A-A47E-42E2-BAE0-0EBE3FC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820-F36D-42D4-9052-0A7E6689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328-F7C7-4211-AB5E-BDAC71F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4ED-936D-4E09-9CEB-B5722BFA2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7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7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7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7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B0B1-EBF7-49D0-8388-B4635D27A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 Introduc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Bureauc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 of executive branc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arries out the law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orkers hired, not appoint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od/Drug Administration, Department of Transportation, etc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Minute Quick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do you think is important to remember about the executive branch of the govern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 to write, then 1 minute to share with a neighbo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sees/interprets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ederal &amp; state criminal courts try people charged with violating federal &amp; state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upreme Court &amp; district courts hear cases based on constitutionality of laws &amp; executive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ointed by President with 2/3 Senate approva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rve for life (except resignation or impeachment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ually follow preced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 power of enforc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Minute Quick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do you think is important to remember about the judicial branch of the govern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 minute to write, then 1 minute to share with a neighbo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kes la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gress: House (population, 2 years) &amp; Senate (2 per state, 6 year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jority of both houses to pass a bill, 2/3 of both houses to override a vet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 of Represent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47560" y="1294920"/>
            <a:ext cx="749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jority ru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peaker of the Hou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responsive to peop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2-year terms, districts within stat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venue bills must start in Hou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apportion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ensus recreates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rrymandering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eachment: bring charg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work happens in committe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Representative: Leonard Boswell (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Content Placeholder 3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liberative body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6-year overlapping ter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ilibuster instead of majority rul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eachment: indict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dvice and cons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2/3 approval for nominees, trea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work happens in committe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enators: Charles Grassley (R) and Tom Harkin (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Content Placeholder 1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174" name="Content Placeholder 14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Minute Quick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rite 1 similarity and 1 difference between the House of Representatives and the Senat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arries out law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esident, Vice President, Cabinet Departments, Bureaucrac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esident &amp; Vice President elected 4-year terms, cabinet/bureaucracy appointed/hired for term/lif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rack Obama, President; Joe Biden, Vice Presid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of 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ESIDENT/V.P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ead of stat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hief executiv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hief legislato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conomic plann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rty lead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hief diploma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mander-in-chief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1468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ABINET DEPT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ttorney Gener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fens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reasur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duc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using &amp; Urban Develop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ealth &amp; Human Servic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16:37Z</dcterms:created>
  <dc:creator>L-Net</dc:creator>
  <dc:description/>
  <dc:language>en-US</dc:language>
  <cp:lastModifiedBy>Danielson, Jason</cp:lastModifiedBy>
  <dcterms:modified xsi:type="dcterms:W3CDTF">2011-10-03T16:03:12Z</dcterms:modified>
  <cp:revision>14</cp:revision>
  <dc:subject/>
  <dc:title>Branches of Government</dc:title>
</cp:coreProperties>
</file>